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png" ContentType="image/png"/>
  <Override PartName="/ppt/media/image14.png" ContentType="image/png"/>
  <Override PartName="/ppt/media/applause.wav" ContentType="audio/x-wav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bomb.wav" ContentType="audio/x-wav"/>
  <Override PartName="/ppt/media/image11.png" ContentType="image/png"/>
  <Override PartName="/ppt/media/image12.jpeg" ContentType="image/jpeg"/>
  <Override PartName="/ppt/media/image13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B3C-8AAE-466B-9D45-88A4128C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F78D-1097-497F-B298-5CBBCC76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73D-65F9-4DC4-8064-30C9162E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7D5B-B2F3-471C-9687-E8A8CA1C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5A45-2F1C-4158-9B4D-4781063B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8058-E8D0-4DCA-8725-D63061B4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AC8C-151C-4F36-8452-87D17E14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52E4-CD67-4DCC-817C-7E6DEDBD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01C5-5916-4DEF-B045-07584BB6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CEF9-D5AF-4B08-B782-A1BC798B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F2F7-4F39-4727-BD5F-11BA4E17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2E0-7F7B-4F21-8D82-DC3BA8BA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EDB0-DCC6-4BB6-A33D-2D9225C0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91D5-0CD7-4465-B73B-1BEB6057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2140-B5AE-45E2-924D-89309DC3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79FD-B1DC-4849-937D-28B2259C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D116-4C0C-46F0-845F-CA2E3192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C1C9-5858-422D-84B1-86FD736E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ED2-0312-40D9-BF6F-F79B6617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3366-EAC5-4116-88FD-4C19B382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A7F7-EF54-43ED-B262-983F6ADA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E0A-357F-49BA-A7F9-D550EE46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B39-18C1-41E1-995F-6DB51D1F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A5A4-6886-47C1-90CF-A2A1569D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6A1C-685E-4143-B786-9D4073F0D0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300F-7402-44D7-800C-C593CAC868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file:///tmp/home/.config/libreoffice/4/user/gallery/bomb.wav" TargetMode="External"/><Relationship Id="rId6" Type="http://schemas.microsoft.com/office/2007/relationships/media" Target="file:///tmp/home/.config/libreoffice/4/user/gallery/bomb.wav" TargetMode="External"/><Relationship Id="rId7" Type="http://schemas.openxmlformats.org/officeDocument/2006/relationships/image" Target="../media/image7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" Target="slide56.xml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oleObject" Target="../embeddings/oleObject1.bin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slide" Target="slide57.xml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oleObject" Target="../embeddings/oleObject1.bin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slide" Target="slide58.xml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oleObject" Target="../embeddings/oleObject1.bin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" Target="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oleObject" Target="../embeddings/oleObject1.bin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slide" Target="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4.jpe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slide" Target="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" Target="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slide" Target="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4.jpeg"/><Relationship Id="rId27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4.jpe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slide" Target=""/><Relationship Id="rId26" Type="http://schemas.openxmlformats.org/officeDocument/2006/relationships/image" Target="../media/image12.jpeg"/><Relationship Id="rId27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slide" Target="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oleObject" Target="../embeddings/oleObject1.bin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" Target="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4.jpe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slide" Target=""/><Relationship Id="rId22" Type="http://schemas.openxmlformats.org/officeDocument/2006/relationships/image" Target="../media/image9.jpeg"/><Relationship Id="rId23" Type="http://schemas.openxmlformats.org/officeDocument/2006/relationships/image" Target="../media/image4.jpe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slide" Target="slide52.xml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oleObject" Target="../embeddings/oleObject1.bin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4.jpeg"/><Relationship Id="rId25" Type="http://schemas.openxmlformats.org/officeDocument/2006/relationships/slide" Target=""/><Relationship Id="rId26" Type="http://schemas.openxmlformats.org/officeDocument/2006/relationships/image" Target="../media/image12.jpeg"/><Relationship Id="rId27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" Target="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oleObject" Target="../embeddings/oleObject1.bin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slide" Target="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4.jpeg"/><Relationship Id="rId26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slide" Target="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4.jpeg"/><Relationship Id="rId26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11.png"/><Relationship Id="rId23" Type="http://schemas.openxmlformats.org/officeDocument/2006/relationships/image" Target="../media/image11.png"/><Relationship Id="rId24" Type="http://schemas.openxmlformats.org/officeDocument/2006/relationships/image" Target="../media/image4.jpeg"/><Relationship Id="rId25" Type="http://schemas.openxmlformats.org/officeDocument/2006/relationships/slide" Target=""/><Relationship Id="rId26" Type="http://schemas.openxmlformats.org/officeDocument/2006/relationships/image" Target="../media/image12.jpeg"/><Relationship Id="rId27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slide" Target="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oleObject" Target="../embeddings/oleObject1.bin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" Target="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slide" Target="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4.jpeg"/><Relationship Id="rId25" Type="http://schemas.openxmlformats.org/officeDocument/2006/relationships/image" Target="../media/image11.png"/><Relationship Id="rId26" Type="http://schemas.openxmlformats.org/officeDocument/2006/relationships/image" Target="../media/image11.png"/><Relationship Id="rId27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4.jpe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slide" Target=""/><Relationship Id="rId26" Type="http://schemas.openxmlformats.org/officeDocument/2006/relationships/image" Target="../media/image12.jpeg"/><Relationship Id="rId27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slide" Target="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slide" Target="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oleObject" Target="../embeddings/oleObject1.bin"/><Relationship Id="rId25" Type="http://schemas.openxmlformats.org/officeDocument/2006/relationships/image" Target="../media/image8.png"/><Relationship Id="rId26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4.jpe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slide" Target="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4.jpe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4.jpe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slide" Target=""/><Relationship Id="rId26" Type="http://schemas.openxmlformats.org/officeDocument/2006/relationships/image" Target="../media/image12.jpeg"/><Relationship Id="rId2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oleObject" Target="../embeddings/oleObject1.bin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" Target="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8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" Target="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8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" Target="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" Target="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" Target="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" Target="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" Target="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" Target="slide54.xml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oleObject" Target="../embeddings/oleObject1.bin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audio" Target="../media/bomb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slide" Target="slide55.xml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oleObject" Target="../embeddings/oleObject1.bin"/><Relationship Id="rId24" Type="http://schemas.openxmlformats.org/officeDocument/2006/relationships/image" Target="../media/image8.png"/><Relationship Id="rId2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632484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Evaluar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−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înmulţi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Testul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362320" y="19807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1295640" cy="1270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3048120" y="304812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838080" y="4419720"/>
            <a:ext cx="1371600" cy="11840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3048120" y="4648320"/>
            <a:ext cx="2666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60199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ffff"/>
                </a:solidFill>
                <a:latin typeface="Arial"/>
              </a:rPr>
              <a:t>Faceţi clic exact pe rezultatul corect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380988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0" y="2895480"/>
            <a:ext cx="15048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Atenţie 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pic>
        <p:nvPicPr>
          <p:cNvPr id="171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4582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7620120" y="5943600"/>
            <a:ext cx="304560" cy="762120"/>
          </a:xfrm>
          <a:prstGeom prst="downArrow">
            <a:avLst>
              <a:gd name="adj1" fmla="val 50000"/>
              <a:gd name="adj2" fmla="val 62559"/>
            </a:avLst>
          </a:prstGeom>
          <a:solidFill>
            <a:srgbClr val="00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781680" y="228600"/>
          <a:ext cx="1600200" cy="1509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81680" y="228600"/>
                    <a:ext cx="1600200" cy="15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7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349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>
            <a:hlinkClick r:id="rId8" action="ppaction://hlinksldjump"/>
          </p:cNvPr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457920" y="4114800"/>
            <a:ext cx="253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9 x 7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524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1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383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>
            <a:hlinkClick r:id="rId16" action="ppaction://hlinksldjump"/>
          </p:cNvPr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457560" y="4114800"/>
            <a:ext cx="274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9 x 8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524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417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>
            <a:hlinkClick r:id="rId7" action="ppaction://hlinksldjump"/>
          </p:cNvPr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457560" y="4114800"/>
            <a:ext cx="274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6 x 8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524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9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451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>
            <a:hlinkClick r:id="rId5" action="ppaction://hlinksldjump"/>
          </p:cNvPr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304200" y="4114800"/>
            <a:ext cx="547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7x4) + (6x3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primul produs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524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09480" y="5105520"/>
            <a:ext cx="1905120" cy="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487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>
            <a:hlinkClick r:id="rId18" action="ppaction://hlinksldjump"/>
          </p:cNvPr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4200" y="4114800"/>
            <a:ext cx="547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7x4) + (6x3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28  + (6x3)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al doilea produs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3"/>
          <a:stretch/>
        </p:blipFill>
        <p:spPr>
          <a:xfrm>
            <a:off x="457200" y="1143000"/>
            <a:ext cx="1905120" cy="18684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2438280" y="1905120"/>
            <a:ext cx="3581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7" name=""/>
          <p:cNvSpPr/>
          <p:nvPr/>
        </p:nvSpPr>
        <p:spPr>
          <a:xfrm>
            <a:off x="3200400" y="6019920"/>
            <a:ext cx="1752480" cy="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28800" y="1219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990720"/>
            <a:ext cx="533412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 x 4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 x 7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 x 5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x 9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 x 7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 x 8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 x 8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 7 x 4 ) + ( 3 x 6 )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 8 x 8 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−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 7 x 7 )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 7 x 9 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− ( 6 x 6 )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ffcc"/>
                </a:solidFill>
                <a:latin typeface="Arial"/>
                <a:ea typeface="Arial"/>
              </a:rPr>
              <a:t>Diferenţa numerelor 82 şi 76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 măriţi-o de 9 ori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Din </a:t>
            </a:r>
            <a:r>
              <a:rPr b="1" lang="ro-RO" sz="1800" spc="-1" strike="noStrike">
                <a:solidFill>
                  <a:srgbClr val="00ffcc"/>
                </a:solidFill>
                <a:latin typeface="Arial"/>
                <a:ea typeface="Arial"/>
              </a:rPr>
              <a:t>suma numerelor 28 şi 39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</a:t>
            </a:r>
            <a:r>
              <a:rPr b="1" lang="ro-RO" sz="1800" spc="-1" strike="noStrike">
                <a:solidFill>
                  <a:srgbClr val="86d1ec"/>
                </a:solidFill>
                <a:latin typeface="Arial"/>
                <a:ea typeface="Arial"/>
              </a:rPr>
              <a:t>scădeţi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o-RO" sz="1800" spc="-1" strike="noStrike">
                <a:solidFill>
                  <a:srgbClr val="00ffcc"/>
                </a:solidFill>
                <a:latin typeface="Arial"/>
                <a:ea typeface="Arial"/>
              </a:rPr>
              <a:t>produsul numerelor 7 şi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6324480"/>
            <a:ext cx="3581640" cy="307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80"/>
                </a:solidFill>
                <a:latin typeface="Arial"/>
              </a:rPr>
              <a:t>Exerciţiile se detaliază în continua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>
            <a:hlinkClick r:id="rId11" action="ppaction://hlinksldjump"/>
          </p:cNvPr>
          <p:cNvSpPr/>
          <p:nvPr/>
        </p:nvSpPr>
        <p:spPr>
          <a:xfrm>
            <a:off x="1676520" y="106668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29200" y="63244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0000"/>
                </a:solidFill>
                <a:latin typeface="Arial"/>
              </a:rPr>
              <a:t>Folosiţi butoanele doar pentru corectare</a:t>
            </a: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rId24" action="ppaction://hlinksldjump"/>
          </p:cNvPr>
          <p:cNvSpPr/>
          <p:nvPr/>
        </p:nvSpPr>
        <p:spPr>
          <a:xfrm>
            <a:off x="1676520" y="144792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>
            <a:hlinkClick r:id="rId25" action="ppaction://hlinksldjump"/>
          </p:cNvPr>
          <p:cNvSpPr/>
          <p:nvPr/>
        </p:nvSpPr>
        <p:spPr>
          <a:xfrm>
            <a:off x="1676520" y="18288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>
            <a:hlinkClick r:id="rId26" action="ppaction://hlinksldjump"/>
          </p:cNvPr>
          <p:cNvSpPr/>
          <p:nvPr/>
        </p:nvSpPr>
        <p:spPr>
          <a:xfrm>
            <a:off x="1676520" y="22860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>
            <a:hlinkClick r:id="rId27" action="ppaction://hlinksldjump"/>
          </p:cNvPr>
          <p:cNvSpPr/>
          <p:nvPr/>
        </p:nvSpPr>
        <p:spPr>
          <a:xfrm>
            <a:off x="1676520" y="266688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>
            <a:hlinkClick r:id="rId28" action="ppaction://hlinksldjump"/>
          </p:cNvPr>
          <p:cNvSpPr/>
          <p:nvPr/>
        </p:nvSpPr>
        <p:spPr>
          <a:xfrm>
            <a:off x="1676520" y="312408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rId29" action="ppaction://hlinksldjump"/>
          </p:cNvPr>
          <p:cNvSpPr/>
          <p:nvPr/>
        </p:nvSpPr>
        <p:spPr>
          <a:xfrm>
            <a:off x="1676520" y="350532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>
            <a:hlinkClick r:id="rId30" action="ppaction://hlinksldjump"/>
          </p:cNvPr>
          <p:cNvSpPr/>
          <p:nvPr/>
        </p:nvSpPr>
        <p:spPr>
          <a:xfrm>
            <a:off x="2895480" y="38862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>
            <a:hlinkClick r:id="rId31" action="ppaction://hlinksldjump"/>
          </p:cNvPr>
          <p:cNvSpPr/>
          <p:nvPr/>
        </p:nvSpPr>
        <p:spPr>
          <a:xfrm>
            <a:off x="2895480" y="43434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>
            <a:hlinkClick r:id="rId32" action="ppaction://hlinksldjump"/>
          </p:cNvPr>
          <p:cNvSpPr/>
          <p:nvPr/>
        </p:nvSpPr>
        <p:spPr>
          <a:xfrm>
            <a:off x="2895480" y="472428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32" h="21600">
                <a:moveTo>
                  <a:pt x="25360" y="3794"/>
                </a:moveTo>
                <a:lnTo>
                  <a:pt x="39373" y="10800"/>
                </a:lnTo>
                <a:lnTo>
                  <a:pt x="25360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>
            <a:hlinkClick r:id="rId33" action="ppaction://hlinksldjump"/>
          </p:cNvPr>
          <p:cNvSpPr/>
          <p:nvPr/>
        </p:nvSpPr>
        <p:spPr>
          <a:xfrm>
            <a:off x="5638680" y="4876920"/>
            <a:ext cx="228600" cy="6094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609480"/>
              <a:gd name="textAreaBottom" fmla="*/ 594720 h 609480"/>
            </a:gdLst>
            <a:ahLst/>
            <a:rect l="textAreaLeft" t="textAreaTop" r="textAreaRight" b="textAreaBottom"/>
            <a:pathLst>
              <a:path w="21600" h="57532">
                <a:moveTo>
                  <a:pt x="0" y="0"/>
                </a:moveTo>
                <a:lnTo>
                  <a:pt x="21600" y="0"/>
                </a:lnTo>
                <a:lnTo>
                  <a:pt x="21600" y="57532"/>
                </a:lnTo>
                <a:lnTo>
                  <a:pt x="0" y="57532"/>
                </a:lnTo>
                <a:close/>
              </a:path>
              <a:path fill="lightenLess" w="21600" h="57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7532">
                <a:moveTo>
                  <a:pt x="21600" y="0"/>
                </a:moveTo>
                <a:lnTo>
                  <a:pt x="21600" y="57532"/>
                </a:lnTo>
                <a:lnTo>
                  <a:pt x="20200" y="56132"/>
                </a:lnTo>
                <a:lnTo>
                  <a:pt x="20200" y="1400"/>
                </a:lnTo>
                <a:close/>
              </a:path>
              <a:path fill="darkenLess" w="21600" h="57532">
                <a:moveTo>
                  <a:pt x="21600" y="57532"/>
                </a:moveTo>
                <a:lnTo>
                  <a:pt x="0" y="57532"/>
                </a:lnTo>
                <a:lnTo>
                  <a:pt x="1400" y="56132"/>
                </a:lnTo>
                <a:lnTo>
                  <a:pt x="20200" y="56132"/>
                </a:lnTo>
                <a:close/>
              </a:path>
              <a:path fill="lighten" w="21600" h="57532">
                <a:moveTo>
                  <a:pt x="0" y="57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56132"/>
                </a:lnTo>
                <a:close/>
              </a:path>
              <a:path fill="darken" w="21600" h="57532">
                <a:moveTo>
                  <a:pt x="3794" y="21760"/>
                </a:moveTo>
                <a:lnTo>
                  <a:pt x="17806" y="28766"/>
                </a:lnTo>
                <a:lnTo>
                  <a:pt x="3794" y="35773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>
            <a:hlinkClick r:id="rId34" action="ppaction://hlinksldjump"/>
          </p:cNvPr>
          <p:cNvSpPr/>
          <p:nvPr/>
        </p:nvSpPr>
        <p:spPr>
          <a:xfrm>
            <a:off x="4572000" y="5562720"/>
            <a:ext cx="228600" cy="6094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609480"/>
              <a:gd name="textAreaBottom" fmla="*/ 594720 h 609480"/>
            </a:gdLst>
            <a:ahLst/>
            <a:rect l="textAreaLeft" t="textAreaTop" r="textAreaRight" b="textAreaBottom"/>
            <a:pathLst>
              <a:path w="21600" h="57532">
                <a:moveTo>
                  <a:pt x="0" y="0"/>
                </a:moveTo>
                <a:lnTo>
                  <a:pt x="21600" y="0"/>
                </a:lnTo>
                <a:lnTo>
                  <a:pt x="21600" y="57532"/>
                </a:lnTo>
                <a:lnTo>
                  <a:pt x="0" y="57532"/>
                </a:lnTo>
                <a:close/>
              </a:path>
              <a:path fill="lightenLess" w="21600" h="57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7532">
                <a:moveTo>
                  <a:pt x="21600" y="0"/>
                </a:moveTo>
                <a:lnTo>
                  <a:pt x="21600" y="57532"/>
                </a:lnTo>
                <a:lnTo>
                  <a:pt x="20200" y="56132"/>
                </a:lnTo>
                <a:lnTo>
                  <a:pt x="20200" y="1400"/>
                </a:lnTo>
                <a:close/>
              </a:path>
              <a:path fill="darkenLess" w="21600" h="57532">
                <a:moveTo>
                  <a:pt x="21600" y="57532"/>
                </a:moveTo>
                <a:lnTo>
                  <a:pt x="0" y="57532"/>
                </a:lnTo>
                <a:lnTo>
                  <a:pt x="1400" y="56132"/>
                </a:lnTo>
                <a:lnTo>
                  <a:pt x="20200" y="56132"/>
                </a:lnTo>
                <a:close/>
              </a:path>
              <a:path fill="lighten" w="21600" h="57532">
                <a:moveTo>
                  <a:pt x="0" y="57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56132"/>
                </a:lnTo>
                <a:close/>
              </a:path>
              <a:path fill="darken" w="21600" h="57532">
                <a:moveTo>
                  <a:pt x="3794" y="21760"/>
                </a:moveTo>
                <a:lnTo>
                  <a:pt x="17806" y="28766"/>
                </a:lnTo>
                <a:lnTo>
                  <a:pt x="3794" y="35773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952880" y="1066680"/>
            <a:ext cx="838440" cy="3429000"/>
          </a:xfrm>
          <a:prstGeom prst="downArrow">
            <a:avLst>
              <a:gd name="adj1" fmla="val 50000"/>
              <a:gd name="adj2" fmla="val 102243"/>
            </a:avLst>
          </a:prstGeom>
          <a:solidFill>
            <a:srgbClr val="00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1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523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>
            <a:hlinkClick r:id="rId6" action="ppaction://hlinksldjump"/>
          </p:cNvPr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>
            <a:hlinkClick r:id="rId9" action="ppaction://hlinksldjump"/>
          </p:cNvPr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04200" y="4114800"/>
            <a:ext cx="547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7x4) + (6x3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28  +  18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suma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2438280" y="1905120"/>
            <a:ext cx="3581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6"/>
          <a:stretch/>
        </p:blipFill>
        <p:spPr>
          <a:xfrm>
            <a:off x="457200" y="1143000"/>
            <a:ext cx="1905120" cy="18684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1143000" y="5867280"/>
            <a:ext cx="3200400" cy="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828800" y="1219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7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559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28600" y="5181480"/>
            <a:ext cx="29718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7b46d0"/>
                </a:solidFill>
                <a:latin typeface="Arial"/>
              </a:rPr>
              <a:t>Pentru alt exerciţiu fă clic pe GO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56840" y="3200400"/>
            <a:ext cx="547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7x4) + (6x3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9999ff"/>
                </a:solidFill>
                <a:latin typeface="Arial"/>
              </a:rPr>
              <a:t>28  +  18 = 4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22"/>
          <a:stretch/>
        </p:blipFill>
        <p:spPr>
          <a:xfrm>
            <a:off x="457200" y="1143000"/>
            <a:ext cx="1905120" cy="18684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 txBox="1"/>
          <p:nvPr/>
        </p:nvSpPr>
        <p:spPr>
          <a:xfrm>
            <a:off x="2438280" y="1905120"/>
            <a:ext cx="3581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8" name="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962520" y="5181480"/>
            <a:ext cx="1752480" cy="14479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589" name=""/>
          <p:cNvSpPr/>
          <p:nvPr/>
        </p:nvSpPr>
        <p:spPr>
          <a:xfrm>
            <a:off x="1828800" y="1219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>
            <a:hlinkClick r:id="rId11" action="ppaction://hlinksldjump"/>
          </p:cNvPr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6" name=""/>
          <p:cNvSpPr/>
          <p:nvPr/>
        </p:nvSpPr>
        <p:spPr>
          <a:xfrm>
            <a:off x="304560" y="4114800"/>
            <a:ext cx="547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8x8)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  <a:ea typeface="Arial"/>
              </a:rPr>
              <a:t>−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 (7x7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primul produs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7524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9480" y="5105520"/>
            <a:ext cx="1752840" cy="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2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>
            <a:hlinkClick r:id="rId4" action="ppaction://hlinksldjump"/>
          </p:cNvPr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80520" y="3581280"/>
            <a:ext cx="547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8x8)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  <a:ea typeface="Arial"/>
              </a:rPr>
              <a:t>−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 (7x7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64 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  <a:ea typeface="Arial"/>
              </a:rPr>
              <a:t>−  (7x7)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23"/>
          <a:stretch/>
        </p:blipFill>
        <p:spPr>
          <a:xfrm>
            <a:off x="457200" y="1143000"/>
            <a:ext cx="1905120" cy="186840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 txBox="1"/>
          <p:nvPr/>
        </p:nvSpPr>
        <p:spPr>
          <a:xfrm>
            <a:off x="2514600" y="1676520"/>
            <a:ext cx="3581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3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al doilea produs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276720" y="5486400"/>
            <a:ext cx="1676160" cy="0"/>
          </a:xfrm>
          <a:prstGeom prst="line">
            <a:avLst/>
          </a:prstGeom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828800" y="1219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8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60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>
            <a:hlinkClick r:id="rId21" action="ppaction://hlinksldjump"/>
          </p:cNvPr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80520" y="3429000"/>
            <a:ext cx="547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8x8)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  <a:ea typeface="Arial"/>
              </a:rPr>
              <a:t>−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 (7x7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64 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  <a:ea typeface="Arial"/>
              </a:rPr>
              <a:t>−  49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diferenţa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23"/>
          <a:stretch/>
        </p:blipFill>
        <p:spPr>
          <a:xfrm>
            <a:off x="457200" y="1143000"/>
            <a:ext cx="1905120" cy="1868400"/>
          </a:xfrm>
          <a:prstGeom prst="rect">
            <a:avLst/>
          </a:prstGeom>
          <a:ln w="0">
            <a:noFill/>
          </a:ln>
        </p:spPr>
      </p:pic>
      <p:sp>
        <p:nvSpPr>
          <p:cNvPr id="689" name=""/>
          <p:cNvSpPr txBox="1"/>
          <p:nvPr/>
        </p:nvSpPr>
        <p:spPr>
          <a:xfrm>
            <a:off x="2514600" y="1600200"/>
            <a:ext cx="3581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0" name=""/>
          <p:cNvSpPr/>
          <p:nvPr/>
        </p:nvSpPr>
        <p:spPr>
          <a:xfrm>
            <a:off x="1295280" y="4419720"/>
            <a:ext cx="76320" cy="75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143000" y="5181480"/>
            <a:ext cx="2971800" cy="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828800" y="1219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97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>
            <a:hlinkClick r:id="rId15" action="ppaction://hlinksldjump"/>
          </p:cNvPr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457920" y="4114800"/>
            <a:ext cx="253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8 x 4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56840" y="3124080"/>
            <a:ext cx="547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8x8)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  <a:ea typeface="Arial"/>
              </a:rPr>
              <a:t>−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 (7x7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9999ff"/>
                </a:solidFill>
                <a:latin typeface="Arial"/>
              </a:rPr>
              <a:t>64  </a:t>
            </a:r>
            <a:r>
              <a:rPr b="1" lang="en-US" sz="6000" spc="-1" strike="noStrike">
                <a:solidFill>
                  <a:srgbClr val="9999ff"/>
                </a:solidFill>
                <a:latin typeface="Arial"/>
                <a:ea typeface="Arial"/>
              </a:rPr>
              <a:t>−  49 = 1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43000" y="4114800"/>
            <a:ext cx="76320" cy="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2438280" y="1905120"/>
            <a:ext cx="3581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4"/>
          <a:stretch/>
        </p:blipFill>
        <p:spPr>
          <a:xfrm>
            <a:off x="457200" y="1143000"/>
            <a:ext cx="1905120" cy="186840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962520" y="5181480"/>
            <a:ext cx="1752480" cy="14479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728" name=""/>
          <p:cNvSpPr/>
          <p:nvPr/>
        </p:nvSpPr>
        <p:spPr>
          <a:xfrm>
            <a:off x="533520" y="5181480"/>
            <a:ext cx="29718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7b46d0"/>
                </a:solidFill>
                <a:latin typeface="Arial"/>
              </a:rPr>
              <a:t>Pentru alt exerciţiu fă clic pe GO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828800" y="1219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>
            <a:hlinkClick r:id="rId8" action="ppaction://hlinksldjump"/>
          </p:cNvPr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04560" y="4114800"/>
            <a:ext cx="547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7x9)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  <a:ea typeface="Arial"/>
              </a:rPr>
              <a:t>−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 (6x6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primul produs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6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"/>
          <p:cNvSpPr/>
          <p:nvPr/>
        </p:nvSpPr>
        <p:spPr>
          <a:xfrm>
            <a:off x="175248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85800" y="5105520"/>
            <a:ext cx="1676520" cy="0"/>
          </a:xfrm>
          <a:prstGeom prst="line">
            <a:avLst/>
          </a:prstGeom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2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764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1371600" y="685800"/>
            <a:ext cx="685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>
            <a:hlinkClick r:id="rId13" action="ppaction://hlinksldjump"/>
          </p:cNvPr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56840" y="3581280"/>
            <a:ext cx="547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7x9)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  <a:ea typeface="Arial"/>
              </a:rPr>
              <a:t>−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 (6x6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63 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  <a:ea typeface="Arial"/>
              </a:rPr>
              <a:t>−  (6x6)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al doilea produs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2514600" y="1676520"/>
            <a:ext cx="3581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25"/>
          <a:stretch/>
        </p:blipFill>
        <p:spPr>
          <a:xfrm>
            <a:off x="457200" y="1143000"/>
            <a:ext cx="1905120" cy="186840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3429000" y="5486400"/>
            <a:ext cx="1600200" cy="0"/>
          </a:xfrm>
          <a:prstGeom prst="line">
            <a:avLst/>
          </a:prstGeom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75248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8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799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800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>
            <a:hlinkClick r:id="rId19" action="ppaction://hlinksldjump"/>
          </p:cNvPr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80520" y="3429000"/>
            <a:ext cx="547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7x9)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  <a:ea typeface="Arial"/>
              </a:rPr>
              <a:t>−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 (6x6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63 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  <a:ea typeface="Arial"/>
              </a:rPr>
              <a:t>−  36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diferenţa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2438280" y="1600200"/>
            <a:ext cx="3581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25"/>
          <a:stretch/>
        </p:blipFill>
        <p:spPr>
          <a:xfrm>
            <a:off x="457200" y="1143000"/>
            <a:ext cx="1905120" cy="186840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1295280" y="4419720"/>
            <a:ext cx="76320" cy="75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143000" y="5181480"/>
            <a:ext cx="3048120" cy="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75248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837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80520" y="2819520"/>
            <a:ext cx="547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(7x9)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  <a:ea typeface="Arial"/>
              </a:rPr>
              <a:t>−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 (6x6)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9999ff"/>
                </a:solidFill>
                <a:latin typeface="Arial"/>
              </a:rPr>
              <a:t>63 </a:t>
            </a:r>
            <a:r>
              <a:rPr b="1" lang="en-US" sz="6000" spc="-1" strike="noStrike">
                <a:solidFill>
                  <a:srgbClr val="9999ff"/>
                </a:solidFill>
                <a:latin typeface="Arial"/>
                <a:ea typeface="Arial"/>
              </a:rPr>
              <a:t>− 36 = 2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295280" y="3809880"/>
            <a:ext cx="76320" cy="763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2514600" y="1219320"/>
            <a:ext cx="3581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24"/>
          <a:stretch/>
        </p:blipFill>
        <p:spPr>
          <a:xfrm>
            <a:off x="457200" y="685800"/>
            <a:ext cx="1905120" cy="1868400"/>
          </a:xfrm>
          <a:prstGeom prst="rect">
            <a:avLst/>
          </a:prstGeom>
          <a:ln w="0">
            <a:noFill/>
          </a:ln>
        </p:spPr>
      </p:pic>
      <p:pic>
        <p:nvPicPr>
          <p:cNvPr id="866" name="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4114800" y="5029200"/>
            <a:ext cx="1752480" cy="14479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867" name=""/>
          <p:cNvSpPr/>
          <p:nvPr/>
        </p:nvSpPr>
        <p:spPr>
          <a:xfrm>
            <a:off x="609480" y="5029200"/>
            <a:ext cx="29718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7b46d0"/>
                </a:solidFill>
                <a:latin typeface="Arial"/>
              </a:rPr>
              <a:t>Pentru alt exerciţiu fă clic pe GO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52480" y="762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>
            <a:hlinkClick r:id="rId9" action="ppaction://hlinksldjump"/>
          </p:cNvPr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9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5" name=""/>
          <p:cNvSpPr/>
          <p:nvPr/>
        </p:nvSpPr>
        <p:spPr>
          <a:xfrm>
            <a:off x="457200" y="41148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04920" y="404172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Diferenţa numerelor 82 şi 76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măriţi-o de 9 ori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diferenţa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419720" y="3962520"/>
            <a:ext cx="75960" cy="759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343400" y="4572000"/>
            <a:ext cx="1523880" cy="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75248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3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905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1371600" y="685800"/>
            <a:ext cx="762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47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371600" y="685800"/>
            <a:ext cx="2858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>
            <a:hlinkClick r:id="rId8" action="ppaction://hlinksldjump"/>
          </p:cNvPr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>
            <a:hlinkClick r:id="rId13" action="ppaction://hlinksldjump"/>
          </p:cNvPr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57200" y="41148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4920" y="34290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Diferenţa numerelor 82 şi 76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măriţi-o de 9 ori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produsul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600560" y="5105520"/>
            <a:ext cx="274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6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9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24"/>
          <a:stretch/>
        </p:blipFill>
        <p:spPr>
          <a:xfrm>
            <a:off x="457200" y="1143000"/>
            <a:ext cx="1905120" cy="186840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 txBox="1"/>
          <p:nvPr/>
        </p:nvSpPr>
        <p:spPr>
          <a:xfrm>
            <a:off x="2438280" y="1981080"/>
            <a:ext cx="35816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7" name=""/>
          <p:cNvSpPr/>
          <p:nvPr/>
        </p:nvSpPr>
        <p:spPr>
          <a:xfrm>
            <a:off x="914400" y="4495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(82 – 76) x 9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75248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1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942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943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1371600" y="685800"/>
            <a:ext cx="762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0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57200" y="41148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80880" y="266688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Diferenţa numerelor 82 şi 76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măriţi-o de 9 ori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62960" y="3733920"/>
            <a:ext cx="555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ffcc"/>
                </a:solidFill>
                <a:latin typeface="Arial"/>
              </a:rPr>
              <a:t>(82 – 76)x9 </a:t>
            </a:r>
            <a:r>
              <a:rPr b="1" lang="en-US" sz="4000" spc="-1" strike="noStrike">
                <a:solidFill>
                  <a:srgbClr val="00ffcc"/>
                </a:solidFill>
                <a:latin typeface="Arial"/>
              </a:rPr>
              <a:t>=</a:t>
            </a:r>
            <a:r>
              <a:rPr b="1" lang="ro-RO" sz="4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9999ff"/>
                </a:solidFill>
                <a:latin typeface="Arial"/>
              </a:rPr>
              <a:t>6x9 = 5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1" name="" descr=""/>
          <p:cNvPicPr/>
          <p:nvPr/>
        </p:nvPicPr>
        <p:blipFill>
          <a:blip r:embed="rId22"/>
          <a:stretch/>
        </p:blipFill>
        <p:spPr>
          <a:xfrm>
            <a:off x="380880" y="609480"/>
            <a:ext cx="1905120" cy="186876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 txBox="1"/>
          <p:nvPr/>
        </p:nvSpPr>
        <p:spPr>
          <a:xfrm>
            <a:off x="2438280" y="1219320"/>
            <a:ext cx="3581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3" name=""/>
          <p:cNvSpPr/>
          <p:nvPr/>
        </p:nvSpPr>
        <p:spPr>
          <a:xfrm>
            <a:off x="685800" y="5181480"/>
            <a:ext cx="29718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7b46d0"/>
                </a:solidFill>
                <a:latin typeface="Arial"/>
              </a:rPr>
              <a:t>Pentru alt exerciţiu fă clic pe GO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4" name="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962520" y="5181480"/>
            <a:ext cx="1752480" cy="14479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975" name=""/>
          <p:cNvSpPr/>
          <p:nvPr/>
        </p:nvSpPr>
        <p:spPr>
          <a:xfrm>
            <a:off x="1752480" y="685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>
            <a:hlinkClick r:id="rId13" action="ppaction://hlinksldjump"/>
          </p:cNvPr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>
            <a:hlinkClick r:id="rId21" action="ppaction://hlinksldjump"/>
          </p:cNvPr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0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001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2" name=""/>
          <p:cNvSpPr/>
          <p:nvPr/>
        </p:nvSpPr>
        <p:spPr>
          <a:xfrm>
            <a:off x="457200" y="41148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suma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80880" y="3886200"/>
            <a:ext cx="5715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in </a:t>
            </a: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suma numerelor 28 şi 39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6d1ec"/>
                </a:solidFill>
                <a:latin typeface="Arial"/>
              </a:rPr>
              <a:t>scădeţi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produsul numerelor 7 şi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495680" y="4419720"/>
            <a:ext cx="1447920" cy="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75248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09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010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011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1371600" y="685800"/>
            <a:ext cx="68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>
            <a:hlinkClick r:id="rId2" action="ppaction://hlinksldjump"/>
          </p:cNvPr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57200" y="41148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480" y="609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produsul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80880" y="3200400"/>
            <a:ext cx="5715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in </a:t>
            </a: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suma numerelor 28 şi 39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6d1ec"/>
                </a:solidFill>
                <a:latin typeface="Arial"/>
              </a:rPr>
              <a:t>scădeţi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produsul numerelor 7 şi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0" name="" descr=""/>
          <p:cNvPicPr/>
          <p:nvPr/>
        </p:nvPicPr>
        <p:blipFill>
          <a:blip r:embed="rId23"/>
          <a:stretch/>
        </p:blipFill>
        <p:spPr>
          <a:xfrm>
            <a:off x="457200" y="1143000"/>
            <a:ext cx="1905120" cy="1868400"/>
          </a:xfrm>
          <a:prstGeom prst="rect">
            <a:avLst/>
          </a:prstGeom>
          <a:ln w="0">
            <a:noFill/>
          </a:ln>
        </p:spPr>
      </p:pic>
      <p:sp>
        <p:nvSpPr>
          <p:cNvPr id="1041" name=""/>
          <p:cNvSpPr txBox="1"/>
          <p:nvPr/>
        </p:nvSpPr>
        <p:spPr>
          <a:xfrm>
            <a:off x="2438280" y="1981080"/>
            <a:ext cx="35816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2" name=""/>
          <p:cNvSpPr/>
          <p:nvPr/>
        </p:nvSpPr>
        <p:spPr>
          <a:xfrm>
            <a:off x="686160" y="4800600"/>
            <a:ext cx="431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67 – (7x5)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590920" y="5791320"/>
            <a:ext cx="1523880" cy="0"/>
          </a:xfrm>
          <a:prstGeom prst="line">
            <a:avLst/>
          </a:prstGeom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752480" y="1295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47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049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1371600" y="685800"/>
            <a:ext cx="68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>
            <a:hlinkClick r:id="rId15" action="ppaction://hlinksldjump"/>
          </p:cNvPr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57200" y="41148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19320" y="60199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ffcc"/>
                </a:solidFill>
                <a:latin typeface="Arial"/>
              </a:rPr>
              <a:t>Calculează diferenţa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80880" y="3200400"/>
            <a:ext cx="5715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in </a:t>
            </a: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suma numerelor 28 şi 39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6d1ec"/>
                </a:solidFill>
                <a:latin typeface="Arial"/>
              </a:rPr>
              <a:t>scădeţi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produsul numerelor 7 şi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8" name="" descr=""/>
          <p:cNvPicPr/>
          <p:nvPr/>
        </p:nvPicPr>
        <p:blipFill>
          <a:blip r:embed="rId23"/>
          <a:stretch/>
        </p:blipFill>
        <p:spPr>
          <a:xfrm>
            <a:off x="457200" y="1143000"/>
            <a:ext cx="1905120" cy="1868400"/>
          </a:xfrm>
          <a:prstGeom prst="rect">
            <a:avLst/>
          </a:prstGeom>
          <a:ln w="0">
            <a:noFill/>
          </a:ln>
        </p:spPr>
      </p:pic>
      <p:sp>
        <p:nvSpPr>
          <p:cNvPr id="1079" name=""/>
          <p:cNvSpPr txBox="1"/>
          <p:nvPr/>
        </p:nvSpPr>
        <p:spPr>
          <a:xfrm>
            <a:off x="2438280" y="1981080"/>
            <a:ext cx="35816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0" name=""/>
          <p:cNvSpPr/>
          <p:nvPr/>
        </p:nvSpPr>
        <p:spPr>
          <a:xfrm>
            <a:off x="1372320" y="4952880"/>
            <a:ext cx="337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67 – 35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14600" y="4267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99ff"/>
                </a:solidFill>
                <a:latin typeface="Arial"/>
              </a:rPr>
              <a:t>(28 + 39) – (7x5)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88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08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087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1371600" y="685800"/>
            <a:ext cx="68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1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457200" y="411480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57200" y="2590920"/>
            <a:ext cx="5715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Din </a:t>
            </a: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suma numerelor 28 şi 39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6d1ec"/>
                </a:solidFill>
                <a:latin typeface="Arial"/>
              </a:rPr>
              <a:t>scădeţi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produsul numerelor 7 şi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4" name="" descr=""/>
          <p:cNvPicPr/>
          <p:nvPr/>
        </p:nvPicPr>
        <p:blipFill>
          <a:blip r:embed="rId22"/>
          <a:stretch/>
        </p:blipFill>
        <p:spPr>
          <a:xfrm>
            <a:off x="457200" y="380880"/>
            <a:ext cx="1905120" cy="186876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 txBox="1"/>
          <p:nvPr/>
        </p:nvSpPr>
        <p:spPr>
          <a:xfrm>
            <a:off x="2514600" y="914400"/>
            <a:ext cx="3581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2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6" name=""/>
          <p:cNvSpPr/>
          <p:nvPr/>
        </p:nvSpPr>
        <p:spPr>
          <a:xfrm>
            <a:off x="304560" y="4191120"/>
            <a:ext cx="58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(28+39) – (7x5) = </a:t>
            </a:r>
            <a:r>
              <a:rPr b="1" lang="ro-RO" sz="3200" spc="-1" strike="noStrike">
                <a:solidFill>
                  <a:srgbClr val="9999ff"/>
                </a:solidFill>
                <a:latin typeface="Arial"/>
              </a:rPr>
              <a:t>67 – 35 = 32</a:t>
            </a: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85800" y="5181480"/>
            <a:ext cx="297180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7b46d0"/>
                </a:solidFill>
                <a:latin typeface="Arial"/>
              </a:rPr>
              <a:t>Pentru alt exerciţiu fă clic pe GO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8" name="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3962520" y="5181480"/>
            <a:ext cx="1752480" cy="144792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119" name=""/>
          <p:cNvSpPr/>
          <p:nvPr/>
        </p:nvSpPr>
        <p:spPr>
          <a:xfrm>
            <a:off x="1752480" y="457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457920" y="4114800"/>
            <a:ext cx="253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6 x 7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2819520" cy="2435040"/>
          </a:xfrm>
          <a:prstGeom prst="rect">
            <a:avLst/>
          </a:prstGeom>
          <a:ln w="0">
            <a:noFill/>
          </a:ln>
        </p:spPr>
      </p:pic>
      <p:pic>
        <p:nvPicPr>
          <p:cNvPr id="1121" name="" descr=""/>
          <p:cNvPicPr/>
          <p:nvPr/>
        </p:nvPicPr>
        <p:blipFill>
          <a:blip r:embed="rId2"/>
          <a:stretch/>
        </p:blipFill>
        <p:spPr>
          <a:xfrm>
            <a:off x="1828800" y="3952800"/>
            <a:ext cx="2438280" cy="2392560"/>
          </a:xfrm>
          <a:prstGeom prst="rect">
            <a:avLst/>
          </a:prstGeom>
          <a:ln w="0">
            <a:noFill/>
          </a:ln>
        </p:spPr>
      </p:pic>
      <p:sp>
        <p:nvSpPr>
          <p:cNvPr id="1122" name=""/>
          <p:cNvSpPr txBox="1"/>
          <p:nvPr/>
        </p:nvSpPr>
        <p:spPr>
          <a:xfrm rot="2750400">
            <a:off x="4836240" y="1283400"/>
            <a:ext cx="3276360" cy="52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3" name=""/>
          <p:cNvSpPr txBox="1"/>
          <p:nvPr/>
        </p:nvSpPr>
        <p:spPr>
          <a:xfrm rot="19364400">
            <a:off x="1687320" y="1260000"/>
            <a:ext cx="327636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457200" y="3352680"/>
            <a:ext cx="782964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şti foarte bun ! 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1652760" y="2894040"/>
            <a:ext cx="58384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 F Â R Ş I T !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19" repeatCount="indefinite">
                                  <p:stCondLst>
                                    <p:cond delay="5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" dur="5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b46d0"/>
                                      </p:to>
                                    </p:animClr>
                                    <p:animClr clrSpc="rgb">
                                      <p:cBhvr>
                                        <p:cTn id="13" dur="5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b46d0"/>
                                      </p:to>
                                    </p:animClr>
                                    <p:set>
                                      <p:cBhvr>
                                        <p:cTn id="14" dur="5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2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2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1457280" y="2712960"/>
            <a:ext cx="6229440" cy="143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FÂRŞIT ! !</a:t>
            </a:r>
            <a:endParaRPr b="0" lang="en-US" sz="8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2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b46d0"/>
                                      </p:to>
                                    </p:animClr>
                                    <p:set>
                                      <p:cBhvr>
                                        <p:cTn id="28" dur="2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22">
                                  <p:stCondLst>
                                    <p:cond delay="300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19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b46d0"/>
                                      </p:to>
                                    </p:animClr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b46d0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599840" y="3047760"/>
            <a:ext cx="5334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00ffff"/>
                </a:solidFill>
                <a:latin typeface="Arial"/>
              </a:rPr>
              <a:t>8 x 4 = 3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590560" cy="2541600"/>
          </a:xfrm>
          <a:prstGeom prst="rect">
            <a:avLst/>
          </a:prstGeom>
          <a:ln w="0">
            <a:noFill/>
          </a:ln>
        </p:spPr>
      </p:pic>
      <p:sp>
        <p:nvSpPr>
          <p:cNvPr id="1131" name=""/>
          <p:cNvSpPr txBox="1"/>
          <p:nvPr/>
        </p:nvSpPr>
        <p:spPr>
          <a:xfrm>
            <a:off x="3886200" y="129528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2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800600" y="4267080"/>
            <a:ext cx="2666880" cy="22035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134" name=""/>
          <p:cNvSpPr/>
          <p:nvPr/>
        </p:nvSpPr>
        <p:spPr>
          <a:xfrm>
            <a:off x="23623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752480" y="4267080"/>
            <a:ext cx="2210040" cy="2210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b46d0"/>
                </a:solidFill>
                <a:latin typeface="Arial"/>
              </a:rPr>
              <a:t>Pentru alt exerciţiu fă clic pe </a:t>
            </a:r>
            <a:r>
              <a:rPr b="1" lang="ro-RO" sz="4800" spc="-1" strike="noStrike">
                <a:solidFill>
                  <a:srgbClr val="7b46d0"/>
                </a:solidFill>
                <a:latin typeface="Arial"/>
              </a:rPr>
              <a:t>GO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599840" y="3047760"/>
            <a:ext cx="5334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00ffff"/>
                </a:solidFill>
                <a:latin typeface="Arial"/>
              </a:rPr>
              <a:t>6 x 7 = 4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590560" cy="2541600"/>
          </a:xfrm>
          <a:prstGeom prst="rect">
            <a:avLst/>
          </a:prstGeom>
          <a:ln w="0">
            <a:noFill/>
          </a:ln>
        </p:spPr>
      </p:pic>
      <p:sp>
        <p:nvSpPr>
          <p:cNvPr id="1138" name=""/>
          <p:cNvSpPr txBox="1"/>
          <p:nvPr/>
        </p:nvSpPr>
        <p:spPr>
          <a:xfrm>
            <a:off x="3886200" y="129528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9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24280" y="4267080"/>
            <a:ext cx="2590920" cy="214020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141" name=""/>
          <p:cNvSpPr/>
          <p:nvPr/>
        </p:nvSpPr>
        <p:spPr>
          <a:xfrm>
            <a:off x="236232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52480" y="4267080"/>
            <a:ext cx="2210040" cy="2210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b46d0"/>
                </a:solidFill>
                <a:latin typeface="Arial"/>
              </a:rPr>
              <a:t>Pentru alt exerciţiu fă clic pe </a:t>
            </a:r>
            <a:r>
              <a:rPr b="1" lang="ro-RO" sz="4800" spc="-1" strike="noStrike">
                <a:solidFill>
                  <a:srgbClr val="7b46d0"/>
                </a:solidFill>
                <a:latin typeface="Arial"/>
              </a:rPr>
              <a:t>GO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599840" y="3047760"/>
            <a:ext cx="5334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00ffff"/>
                </a:solidFill>
                <a:latin typeface="Arial"/>
              </a:rPr>
              <a:t>8 x 5 = 4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4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590560" cy="2541600"/>
          </a:xfrm>
          <a:prstGeom prst="rect">
            <a:avLst/>
          </a:prstGeom>
          <a:ln w="0">
            <a:noFill/>
          </a:ln>
        </p:spPr>
      </p:pic>
      <p:sp>
        <p:nvSpPr>
          <p:cNvPr id="1145" name=""/>
          <p:cNvSpPr txBox="1"/>
          <p:nvPr/>
        </p:nvSpPr>
        <p:spPr>
          <a:xfrm>
            <a:off x="3886200" y="129528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6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48320" y="4267080"/>
            <a:ext cx="2666880" cy="22035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148" name=""/>
          <p:cNvSpPr/>
          <p:nvPr/>
        </p:nvSpPr>
        <p:spPr>
          <a:xfrm>
            <a:off x="236232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752480" y="4267080"/>
            <a:ext cx="2210040" cy="2210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b46d0"/>
                </a:solidFill>
                <a:latin typeface="Arial"/>
              </a:rPr>
              <a:t>Pentru alt exerciţiu fă clic pe </a:t>
            </a:r>
            <a:r>
              <a:rPr b="1" lang="ro-RO" sz="4800" spc="-1" strike="noStrike">
                <a:solidFill>
                  <a:srgbClr val="7b46d0"/>
                </a:solidFill>
                <a:latin typeface="Arial"/>
              </a:rPr>
              <a:t>GO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599840" y="3047760"/>
            <a:ext cx="5334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00ffff"/>
                </a:solidFill>
                <a:latin typeface="Arial"/>
              </a:rPr>
              <a:t>4 x 9 = 36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1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590560" cy="2541600"/>
          </a:xfrm>
          <a:prstGeom prst="rect">
            <a:avLst/>
          </a:prstGeom>
          <a:ln w="0">
            <a:noFill/>
          </a:ln>
        </p:spPr>
      </p:pic>
      <p:sp>
        <p:nvSpPr>
          <p:cNvPr id="1152" name=""/>
          <p:cNvSpPr txBox="1"/>
          <p:nvPr/>
        </p:nvSpPr>
        <p:spPr>
          <a:xfrm>
            <a:off x="3886200" y="129528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3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648320" y="4267080"/>
            <a:ext cx="2666880" cy="22035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155" name=""/>
          <p:cNvSpPr/>
          <p:nvPr/>
        </p:nvSpPr>
        <p:spPr>
          <a:xfrm>
            <a:off x="236232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752480" y="4267080"/>
            <a:ext cx="2210040" cy="2210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b46d0"/>
                </a:solidFill>
                <a:latin typeface="Arial"/>
              </a:rPr>
              <a:t>Pentru alt exerciţiu fă clic pe </a:t>
            </a:r>
            <a:r>
              <a:rPr b="1" lang="ro-RO" sz="4800" spc="-1" strike="noStrike">
                <a:solidFill>
                  <a:srgbClr val="7b46d0"/>
                </a:solidFill>
                <a:latin typeface="Arial"/>
              </a:rPr>
              <a:t>GO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599840" y="3047760"/>
            <a:ext cx="5334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00ffff"/>
                </a:solidFill>
                <a:latin typeface="Arial"/>
              </a:rPr>
              <a:t>9 x 7 = 63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8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590560" cy="2541600"/>
          </a:xfrm>
          <a:prstGeom prst="rect">
            <a:avLst/>
          </a:prstGeom>
          <a:ln w="0">
            <a:noFill/>
          </a:ln>
        </p:spPr>
      </p:pic>
      <p:sp>
        <p:nvSpPr>
          <p:cNvPr id="1159" name=""/>
          <p:cNvSpPr txBox="1"/>
          <p:nvPr/>
        </p:nvSpPr>
        <p:spPr>
          <a:xfrm>
            <a:off x="3886200" y="129528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0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24280" y="4267080"/>
            <a:ext cx="2667240" cy="22035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162" name=""/>
          <p:cNvSpPr/>
          <p:nvPr/>
        </p:nvSpPr>
        <p:spPr>
          <a:xfrm>
            <a:off x="236232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752480" y="4267080"/>
            <a:ext cx="2210040" cy="2210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b46d0"/>
                </a:solidFill>
                <a:latin typeface="Arial"/>
              </a:rPr>
              <a:t>Pentru alt exerciţiu fă clic pe </a:t>
            </a:r>
            <a:r>
              <a:rPr b="1" lang="ro-RO" sz="4800" spc="-1" strike="noStrike">
                <a:solidFill>
                  <a:srgbClr val="7b46d0"/>
                </a:solidFill>
                <a:latin typeface="Arial"/>
              </a:rPr>
              <a:t>GO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599840" y="3047760"/>
            <a:ext cx="5334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ffff"/>
                </a:solidFill>
                <a:latin typeface="Arial"/>
              </a:rPr>
              <a:t>9 x 8 = 72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590560" cy="2541600"/>
          </a:xfrm>
          <a:prstGeom prst="rect">
            <a:avLst/>
          </a:prstGeom>
          <a:ln w="0">
            <a:noFill/>
          </a:ln>
        </p:spPr>
      </p:pic>
      <p:sp>
        <p:nvSpPr>
          <p:cNvPr id="1166" name=""/>
          <p:cNvSpPr txBox="1"/>
          <p:nvPr/>
        </p:nvSpPr>
        <p:spPr>
          <a:xfrm>
            <a:off x="3886200" y="129528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7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24280" y="4267080"/>
            <a:ext cx="2667240" cy="22035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169" name=""/>
          <p:cNvSpPr/>
          <p:nvPr/>
        </p:nvSpPr>
        <p:spPr>
          <a:xfrm>
            <a:off x="236232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cc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752480" y="4267080"/>
            <a:ext cx="2210040" cy="2210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b46d0"/>
                </a:solidFill>
                <a:latin typeface="Arial"/>
              </a:rPr>
              <a:t>Pentru alt exerciţiu fă clic pe </a:t>
            </a:r>
            <a:r>
              <a:rPr b="1" lang="ro-RO" sz="4800" spc="-1" strike="noStrike">
                <a:solidFill>
                  <a:srgbClr val="7b46d0"/>
                </a:solidFill>
                <a:latin typeface="Arial"/>
              </a:rPr>
              <a:t>GO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599840" y="3047760"/>
            <a:ext cx="5334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00ffff"/>
                </a:solidFill>
                <a:latin typeface="Arial"/>
              </a:rPr>
              <a:t>6 x 8 = 4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590560" cy="2541600"/>
          </a:xfrm>
          <a:prstGeom prst="rect">
            <a:avLst/>
          </a:prstGeom>
          <a:ln w="0">
            <a:noFill/>
          </a:ln>
        </p:spPr>
      </p:pic>
      <p:sp>
        <p:nvSpPr>
          <p:cNvPr id="1173" name=""/>
          <p:cNvSpPr txBox="1"/>
          <p:nvPr/>
        </p:nvSpPr>
        <p:spPr>
          <a:xfrm>
            <a:off x="3886200" y="129528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4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24280" y="4267080"/>
            <a:ext cx="2667240" cy="220356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1176" name=""/>
          <p:cNvSpPr/>
          <p:nvPr/>
        </p:nvSpPr>
        <p:spPr>
          <a:xfrm>
            <a:off x="2362320" y="685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cc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752480" y="4267080"/>
            <a:ext cx="2210040" cy="2210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7b46d0"/>
                </a:solidFill>
                <a:latin typeface="Arial"/>
              </a:rPr>
              <a:t>Pentru alt exerciţiu fă clic pe </a:t>
            </a:r>
            <a:r>
              <a:rPr b="1" lang="ro-RO" sz="4800" spc="-1" strike="noStrike">
                <a:solidFill>
                  <a:srgbClr val="7b46d0"/>
                </a:solidFill>
                <a:latin typeface="Arial"/>
              </a:rPr>
              <a:t>GO 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9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81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>
            <a:hlinkClick r:id="rId3" action="ppaction://hlinksldjump"/>
          </p:cNvPr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57920" y="4114800"/>
            <a:ext cx="253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8 x 5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>
            <a:hlinkClick r:id="" action="ppaction://hlinkshowjump?jump=firs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3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315" name="">
            <a:hlinkClick r:id="" action="ppaction://hlinkshowjump?jump=firstslide"/>
          </p:cNvPr>
          <p:cNvSpPr/>
          <p:nvPr/>
        </p:nvSpPr>
        <p:spPr>
          <a:xfrm>
            <a:off x="914400" y="4648320"/>
            <a:ext cx="1600200" cy="1557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Arial"/>
              </a:rPr>
              <a:t>Dacă greşeşti, o iei de la început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371600" y="685800"/>
            <a:ext cx="5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60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248520" y="160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238880" y="1219320"/>
            <a:ext cx="685800" cy="520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153280" y="1219320"/>
            <a:ext cx="68580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153280" y="2133720"/>
            <a:ext cx="685800" cy="520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2133720"/>
            <a:ext cx="685800" cy="520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38880" y="380880"/>
            <a:ext cx="685800" cy="520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53280" y="380880"/>
            <a:ext cx="685800" cy="5205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248520" y="1219320"/>
            <a:ext cx="685800" cy="5205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38880" y="4648320"/>
            <a:ext cx="685800" cy="520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48520" y="380880"/>
            <a:ext cx="685800" cy="5205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71800" y="7621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38088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Alegeţi rezultatul corect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48520" y="2971800"/>
            <a:ext cx="685800" cy="520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48520" y="3809880"/>
            <a:ext cx="685800" cy="5205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48320"/>
            <a:ext cx="685800" cy="520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>
            <a:hlinkClick r:id="rId13" action="ppaction://hlinksldjump"/>
          </p:cNvPr>
          <p:cNvSpPr/>
          <p:nvPr/>
        </p:nvSpPr>
        <p:spPr>
          <a:xfrm>
            <a:off x="6248520" y="5486400"/>
            <a:ext cx="685800" cy="52056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238880" y="2971800"/>
            <a:ext cx="685800" cy="52056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2971800"/>
            <a:ext cx="685800" cy="520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238880" y="3809880"/>
            <a:ext cx="685800" cy="52056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153280" y="3809880"/>
            <a:ext cx="685800" cy="52056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248520" y="2133720"/>
            <a:ext cx="685800" cy="52056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4648320"/>
            <a:ext cx="685800" cy="52056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238880" y="5486400"/>
            <a:ext cx="685800" cy="5205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6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5486400"/>
            <a:ext cx="685800" cy="52056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457200" y="990720"/>
          <a:ext cx="3029040" cy="2857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" y="990720"/>
                    <a:ext cx="30290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457560" y="4114800"/>
            <a:ext cx="274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ffcc"/>
                </a:solidFill>
                <a:latin typeface="Arial"/>
              </a:rPr>
              <a:t>4 x 9 </a:t>
            </a:r>
            <a:r>
              <a:rPr b="1" lang="en-US" sz="6000" spc="-1" strike="noStrike">
                <a:solidFill>
                  <a:srgbClr val="00ffcc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52480" y="1752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6:23:50Z</dcterms:created>
  <dc:creator>THX_COMPUTERS</dc:creator>
  <dc:description/>
  <dc:language>en-US</dc:language>
  <cp:lastModifiedBy>IULIA</cp:lastModifiedBy>
  <dcterms:modified xsi:type="dcterms:W3CDTF">2009-11-17T13:38:27Z</dcterms:modified>
  <cp:revision>10</cp:revision>
  <dc:subject/>
  <dc:title>Slide 1</dc:title>
</cp:coreProperties>
</file>